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3A0-233D-4AAB-8A48-5D25CE93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CF9-0861-4429-94CD-36E0A07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C02-E6D1-46DC-BF6F-BE4AD626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15E-4EC9-4B67-BD51-961E1632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58F-2126-4759-9E32-4E1B635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ED8-95E3-408B-A294-29B660F3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250-AA95-4D51-B6FB-171E6D3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789-7E1B-49CD-BC31-94CDC32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3D1-1751-4AE9-B2A6-E011CC6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C6D-ABF5-4E7B-9292-7A56FE9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FDF-4416-4902-9CE9-3FB07FD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C09-5CA7-4BDE-92E4-D3AA491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3C0-C6EE-4F14-857F-40F0CED7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-quadrat.narod.ru/01/pictures/01-turn-f3-600.gi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ndergenii.ru/grdiktant.htm" TargetMode="External"/><Relationship Id="rId2" Type="http://schemas.openxmlformats.org/officeDocument/2006/relationships/hyperlink" Target="http://www.kindergenii.ru/grdiktant.htm" TargetMode="External"/><Relationship Id="rId3" Type="http://schemas.openxmlformats.org/officeDocument/2006/relationships/hyperlink" Target="http://www.kindergenii.ru/grdiktant.htm" TargetMode="External"/><Relationship Id="rId4" Type="http://schemas.openxmlformats.org/officeDocument/2006/relationships/hyperlink" Target="http://www.kindergenii.ru/grdiktant.htm" TargetMode="External"/><Relationship Id="rId5" Type="http://schemas.openxmlformats.org/officeDocument/2006/relationships/hyperlink" Target="http://www.kindergenii.ru/grdiktant.htm" TargetMode="External"/><Relationship Id="rId6" Type="http://schemas.openxmlformats.org/officeDocument/2006/relationships/hyperlink" Target="http://tests.kulichki.com/golovolomki/" TargetMode="External"/><Relationship Id="rId7" Type="http://schemas.openxmlformats.org/officeDocument/2006/relationships/hyperlink" Target="http://tests.kulichki.com/golovolomki/" TargetMode="External"/><Relationship Id="rId8" Type="http://schemas.openxmlformats.org/officeDocument/2006/relationships/hyperlink" Target="http://tests.kulichki.com/golovolomki/" TargetMode="External"/><Relationship Id="rId9" Type="http://schemas.openxmlformats.org/officeDocument/2006/relationships/hyperlink" Target="http://tests.kulichki.com/golovolomki/" TargetMode="External"/><Relationship Id="rId10" Type="http://schemas.openxmlformats.org/officeDocument/2006/relationships/hyperlink" Target="http://tests.kulichki.com/golovolomki/" TargetMode="External"/><Relationship Id="rId11" Type="http://schemas.openxmlformats.org/officeDocument/2006/relationships/hyperlink" Target="http://tests.kulichki.com/golovolomki/" TargetMode="External"/><Relationship Id="rId12" Type="http://schemas.openxmlformats.org/officeDocument/2006/relationships/hyperlink" Target="http://dob.1september.ru/article.php?ID=200700518" TargetMode="External"/><Relationship Id="rId13" Type="http://schemas.openxmlformats.org/officeDocument/2006/relationships/hyperlink" Target="http://pedagogic.ru/books/item/f00/s00/z0000010/st004.shtml" TargetMode="Externa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836640"/>
            <a:ext cx="583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влекательное обучение детей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ева Оксана – координатор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хнин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дыгин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исе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б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01840" cy="287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260280"/>
            <a:ext cx="4314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 помощью магистра графических наук решаютс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 и называть вид графического изображения (чертеж, схема, карта, план, наглядное изображение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 и называние) вида графического изоб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азывание вида заданного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хождение названного вида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Установление соответствия графического изображения и его наз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63640" y="5157720"/>
            <a:ext cx="141912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923760" cy="14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16360" y="50846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372360" y="530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812000" y="5373720"/>
            <a:ext cx="107496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712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, называние) формы изображенных предметов (в т.ч. геометрических фигур)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ыделение и называние заданных форм в графических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деление элементов изображенных фигур: вершин, углов, сторон, ребер, гр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пределение симметричности изображенны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44800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лиз (выделение, называние) величины изображенных предметов и их частей Выделение заданных параметров вел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равнение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становление сериационных отношений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566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2764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27640" y="508464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нализ (выделение, называние) пространственных отношений изображенных предметов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«Чтение» лабири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пределение взаимного расположения объектов и их частей на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равнение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26844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мплексные зад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Выделение существенных признаков сходства или различия изображенных объектов и и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деление объектов на «зашумленных» или наложен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Поиск отличий в сход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Группировка изображений по различным призна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пределение недостающих или неадекватных деталей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Установление соответствия изображений и реальных объ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риентировка по планам (чтение), соотнесение с реальной обстано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Анализ изображений паркетов, мозаик, орнаментов: выделение составных частей (мотивов), определение их формы, величины и взаимного рас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Установление закономерностей в построении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5013360"/>
            <a:ext cx="201600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26" descr="Математические мозаики: Рис.26"/>
          <p:cNvPicPr/>
          <p:nvPr/>
        </p:nvPicPr>
        <p:blipFill>
          <a:blip r:embed="rId2"/>
          <a:stretch/>
        </p:blipFill>
        <p:spPr>
          <a:xfrm>
            <a:off x="5651640" y="5084640"/>
            <a:ext cx="1944720" cy="15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577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анализировать графический состав изображений (виды линий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изоб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ахождение, называние типов линий, использованных в изобра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оиск отличий в сходных изображениях (по типам ли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Группировка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435640" y="2781360"/>
            <a:ext cx="3384360" cy="258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577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умений конструировать по графическому изображени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нструирование плоскостных мод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онструирование по полному образцу (расчлененному на час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Конструирование по частично расчлененному образ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Конструирование по нерасчлененному образцу (контур, силуэ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08560" y="2781360"/>
            <a:ext cx="2217960" cy="1668960"/>
            <a:chOff x="6208560" y="2781360"/>
            <a:chExt cx="2217960" cy="1668960"/>
          </a:xfrm>
        </p:grpSpPr>
        <p:sp>
          <p:nvSpPr>
            <p:cNvPr id="99" name=""/>
            <p:cNvSpPr/>
            <p:nvPr/>
          </p:nvSpPr>
          <p:spPr>
            <a:xfrm>
              <a:off x="620856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0520" y="3551760"/>
              <a:ext cx="34992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0720" y="3551760"/>
              <a:ext cx="34956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00520" y="3359160"/>
              <a:ext cx="933840" cy="641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8560" y="3294720"/>
              <a:ext cx="233640" cy="449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100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1000" y="3294720"/>
              <a:ext cx="233640" cy="44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2600" y="3294720"/>
              <a:ext cx="23328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2880" y="3294720"/>
              <a:ext cx="23364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2600" y="3166200"/>
              <a:ext cx="583560" cy="192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59240" y="2973600"/>
              <a:ext cx="349920" cy="256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6240" y="2781360"/>
              <a:ext cx="115920" cy="25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2480" y="4129560"/>
              <a:ext cx="408240" cy="320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770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нструирование объемных моделе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Конструирование из готовых разверток, выкро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онструирование по наглядному изобра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Конструирование по чертежу в нескольких ви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1-turn-f3-200" descr="Журнал Квадрат - Фигура #3">
            <a:hlinkClick r:id="rId1"/>
          </p:cNvPr>
          <p:cNvPicPr/>
          <p:nvPr/>
        </p:nvPicPr>
        <p:blipFill>
          <a:blip r:embed="rId2"/>
          <a:stretch/>
        </p:blipFill>
        <p:spPr>
          <a:xfrm rot="5400000">
            <a:off x="5106600" y="1598400"/>
            <a:ext cx="36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14" name="01-turn-f3-ready-150" descr="Журнал Квадрат - Фигура #3"/>
          <p:cNvPicPr/>
          <p:nvPr/>
        </p:nvPicPr>
        <p:blipFill>
          <a:blip r:embed="rId3"/>
          <a:stretch/>
        </p:blipFill>
        <p:spPr>
          <a:xfrm>
            <a:off x="6804000" y="472428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354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 умений читать и воспроизводить заданную в графическом изображении последовательность действи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нализ графического изображения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нструирование по схеме, отражающей последовательность действий (оригами, «Квадрат Воскобович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Определение и воспроизведение заданной последовательности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диагностические задания для выявления уровня сформированности умений по декодированию графической информации. Выполнение заданий оценивается по трехбалльной системе. В конце комплекса заданий дана характеристика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методические пособия по формированию знаний и умений у детей старшего дошкольного возраста декодировать графическу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591080" cy="564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133720"/>
            <a:ext cx="238140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____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милия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шно закончи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УЮ АКАДЕМИЮ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ВА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стер по декодированию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ой информ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9079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пл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692360" y="549360"/>
            <a:ext cx="9237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еева С.И. Обучение с увл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екреты квадрата и кубика. - М., 199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имметрия, орнаменты и мозаики. - М.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дина Р.И. Куда не ходят по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тковский А., Лыкова И. Цветная геоме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кова С.И. Математические ступен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Технология развития пространственного мышления и графических умений у детей 6 – 7 лет: Практическое пособие. – М.: АРКТИ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Графика в детском саду: Технология развития пространственного мышления детей 6 – 7 лет (на основе графических изображений). - Сыктывкар: КГПИ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Знакомство детей с геометрическими фигурами // Дошкольное воспитание. – М., 2000. - №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врина С.Е., Кутявина Н.Л. Готовим руку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ис А.Л. Считал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есникова Е.В. Цвет и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ерзон А.Е., Чекин А.Л. Азбука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икова Е.В. Как подготовить руку ребенка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лтанова М.Н. Развиваем пространствен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indergenii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diktan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ests.kulichki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olovolom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dob.1september.ru/article.php?ID=2007005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edagogic.ru/books/item/f00/s00/z0000010/st004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47640" y="1197000"/>
            <a:ext cx="604548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308628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теоретических основ проблемы декодирования графической информации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комплексных вариативных программ на предмет содержания задач по декодированию графическ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 по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ческих пособий по формированию знаний и умений у детей старшего дошкольного возраста декодировать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Анализ программ выя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граммах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Детств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Радуг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арм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статочно полно представлены задачи по разделу «Декодирование графической информ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 и развернуто задачи изложены в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е воспитания и обучения в детском саду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азделах: математика, конструирование, ручной труд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руппы  задач по декод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е определять и называть вид графических изображений (чертеж, схема, карта, план, наглядное изобр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анализировать графический состав изображения (виды ли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конструировать по графическому изоб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читать и воспроизводить заданную в графическом изображении последовательность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ортфолео проекта 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тетрадь для овладения детьми декодированием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етодические пособ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80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561168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0647997_1277198066_btjmobbo6[1]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95732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24000" y="1844640"/>
            <a:ext cx="558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2276640"/>
            <a:ext cx="4427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чая тетрадь для овладения деть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дированием графическ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880" y="7515360"/>
            <a:ext cx="42289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ий дошкольный возра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308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34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вместе со взрослым поступае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КАДЕМИЮ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есь он осваивает знания и умения по декодированию графической информации вместе с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гистром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Мудрый магистр следит за качеством выполнения ребенком заданий, оценивает их. По итогам выполнения всех заданий ребенку вручается дипл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60647997_1277198066_btjmobbo6[1]" descr=""/>
          <p:cNvPicPr/>
          <p:nvPr/>
        </p:nvPicPr>
        <p:blipFill>
          <a:blip r:embed="rId1"/>
          <a:stretch/>
        </p:blipFill>
        <p:spPr>
          <a:xfrm>
            <a:off x="6877080" y="2565360"/>
            <a:ext cx="19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2:03Z</dcterms:created>
  <dc:creator>User</dc:creator>
  <dc:description/>
  <dc:language>en-US</dc:language>
  <cp:lastModifiedBy>AUD312</cp:lastModifiedBy>
  <dcterms:modified xsi:type="dcterms:W3CDTF">2010-12-24T08:06:44Z</dcterms:modified>
  <cp:revision>5</cp:revision>
  <dc:subject/>
  <dc:title>Увлекательное обучение детей декодированию графической информации</dc:title>
</cp:coreProperties>
</file>